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" Target="slide9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zotäm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760" y="549360"/>
            <a:ext cx="24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2760" y="549360"/>
            <a:ext cx="61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  <a:endCxn id="1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in Nark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9400" y="549360"/>
            <a:ext cx="36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1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1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82160" y="549360"/>
            <a:ext cx="67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wege 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71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2" name=""/>
          <p:cNvCxnSpPr>
            <a:stCxn id="168" idx="3"/>
            <a:endCxn id="17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68" idx="3"/>
            <a:endCxn id="174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2160" y="549360"/>
            <a:ext cx="67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wege (vollständig/partiell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3"/>
            <a:endCxn id="18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tzündungspropf (FLUTD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560" y="549360"/>
            <a:ext cx="720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stoff ↑ (Azotämie) &gt; postrenal &gt; 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wege (vollständig/partiell) &gt; 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et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pasmus der Urethr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560" y="549360"/>
            <a:ext cx="720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stoff ↑ (Azotämie) &gt; postrenal &gt; 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wege (vollständig/partiell) &gt; 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8" idx="3"/>
            <a:endCxn id="19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7000" y="54936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stoff ↑ (Azotämie) &gt; postrenal &gt; Trauma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3" idx="3"/>
            <a:endCxn id="19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blasenrup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briss der Ureter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_x000b_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zu viel Harnstoff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47160" y="549360"/>
            <a:ext cx="35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5720" y="549360"/>
            <a:ext cx="65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relativ 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2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Harnstoff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fall von Harnstoff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5520" y="549360"/>
            <a:ext cx="64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solut ( zu viel Harnstoff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fall von Harnstoff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4800" y="549360"/>
            <a:ext cx="66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solut ( zu viel Harnstoff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Harnstoff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nd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oteinab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gen-Darm-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5" name=""/>
          <p:cNvCxnSpPr>
            <a:stCxn id="131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prandi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54800" y="549360"/>
            <a:ext cx="66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solut ( zu viel Harnstoff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fall von Harnstoff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oteinaufnahm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7920" y="549360"/>
            <a:ext cx="71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solut ( zu viel Harnstoff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Harnstoff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aufnahme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gen-Darm-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lze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rtale Hypertens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d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b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4800" y="549360"/>
            <a:ext cx="66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solut ( zu viel Harnstoff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Harnstoff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ndogener Proteinab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3"/>
            <a:endCxn id="1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k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atabolismus bei Fieb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4200" y="54936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5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2" name=""/>
          <p:cNvCxnSpPr>
            <a:stCxn id="148" idx="3"/>
            <a:endCxn id="15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05:32Z</dcterms:modified>
  <cp:revision>335</cp:revision>
  <dc:subject/>
  <dc:title>Vorstellung einer Neuheit</dc:title>
</cp:coreProperties>
</file>